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F56E7D-3DAD-48DF-AE52-558AB2007A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040AE-1CB0-4146-9B48-EF97CDC0C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12886B-7C55-44C4-9FC8-F836427E86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0F29EC-746D-48F6-9EEC-585C235673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D0A8E-5FCB-4E9B-8E9C-6E9249300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C93D3-2ADE-43BB-8DFF-BE8527031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E5DA3-2578-4F84-8F42-1C46ECFF6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BDE96-BD9A-4841-8BD2-899E9EEFE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BBEE6-CE59-4587-991C-0A077E4DF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7B7DE-EB63-40D7-8170-4DAF40D52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1DAAB-E365-4EBE-B74E-8700190D1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BDAA3-762B-470E-8BCA-F390D6FA88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1FF14-D728-421E-AE2D-6AD1AA2BF7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838080" y="838080"/>
            <a:ext cx="731520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38160">
                  <a:solidFill>
                    <a:srgbClr val="000000"/>
                  </a:solidFill>
                  <a:miter/>
                </a:ln>
                <a:blipFill rotWithShape="0">
                  <a:blip r:embed="rId2"/>
                  <a:srcRect/>
                  <a:stretch/>
                </a:blipFill>
                <a:effectLst>
                  <a:outerShdw dist="17819" dir="2700000" blurRad="0" rotWithShape="0">
                    <a:srgbClr val="808080"/>
                  </a:outerShdw>
                </a:effectLst>
                <a:latin typeface="Book Antiqua"/>
              </a:rPr>
              <a:t>Loty w Kosmos</a:t>
            </a:r>
            <a:endParaRPr b="0" i="1" lang="en-US" sz="2400" spc="1" strike="noStrike">
              <a:ln w="38160">
                <a:solidFill>
                  <a:srgbClr val="000000"/>
                </a:solidFill>
                <a:miter/>
              </a:ln>
              <a:blipFill rotWithShape="0">
                <a:blip r:embed="rId3"/>
                <a:srcRect/>
                <a:stretch/>
              </a:blipFill>
              <a:effectLst>
                <a:outerShdw dist="17819" dir="2700000" blurRad="0" rotWithShape="0">
                  <a:srgbClr val="808080"/>
                </a:outerShdw>
              </a:effectLst>
              <a:latin typeface="Book Antiqua"/>
              <a:ea typeface="Book Antiqua"/>
            </a:endParaRPr>
          </a:p>
        </p:txBody>
      </p:sp>
      <p:sp>
        <p:nvSpPr>
          <p:cNvPr id="42" name=""/>
          <p:cNvSpPr txBox="1"/>
          <p:nvPr/>
        </p:nvSpPr>
        <p:spPr>
          <a:xfrm>
            <a:off x="2666880" y="2895480"/>
            <a:ext cx="3962520" cy="111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38160">
                  <a:solidFill>
                    <a:srgbClr val="000000"/>
                  </a:solidFill>
                  <a:miter/>
                </a:ln>
                <a:blipFill rotWithShape="0">
                  <a:blip r:embed="rId4"/>
                  <a:srcRect/>
                  <a:stretch/>
                </a:blipFill>
                <a:effectLst>
                  <a:outerShdw dist="17819" dir="2700000" blurRad="0" rotWithShape="0">
                    <a:srgbClr val="808080"/>
                  </a:outerShdw>
                </a:effectLst>
                <a:latin typeface="Bookman Old Style"/>
              </a:rPr>
              <a:t>Quiz</a:t>
            </a:r>
            <a:endParaRPr b="0" i="1" lang="en-US" sz="2400" spc="1" strike="noStrike">
              <a:ln w="38160">
                <a:solidFill>
                  <a:srgbClr val="000000"/>
                </a:solidFill>
                <a:miter/>
              </a:ln>
              <a:blipFill rotWithShape="0">
                <a:blip r:embed="rId5"/>
                <a:srcRect/>
                <a:stretch/>
              </a:blipFill>
              <a:effectLst>
                <a:outerShdw dist="17819" dir="2700000" blurRad="0" rotWithShape="0">
                  <a:srgbClr val="808080"/>
                </a:outerShdw>
              </a:effectLst>
              <a:latin typeface="Bookman Old Style"/>
              <a:ea typeface="Bookman Old Style"/>
            </a:endParaRPr>
          </a:p>
        </p:txBody>
      </p:sp>
      <p:sp>
        <p:nvSpPr>
          <p:cNvPr id="43" name=""/>
          <p:cNvSpPr/>
          <p:nvPr/>
        </p:nvSpPr>
        <p:spPr>
          <a:xfrm>
            <a:off x="2286000" y="464832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woje odpowiedzi zapisuj na kart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2.</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Gagari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Armstro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Komarow</a:t>
            </a:r>
            <a:endParaRPr b="0" lang="en-US" sz="3200" spc="-1" strike="noStrike">
              <a:solidFill>
                <a:srgbClr val="000000"/>
              </a:solidFill>
              <a:latin typeface="Times New Roman"/>
            </a:endParaRPr>
          </a:p>
        </p:txBody>
      </p:sp>
      <p:sp>
        <p:nvSpPr>
          <p:cNvPr id="57"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k się nazywał Rosjanin, który zginął w pierwszym rosyjskim locie w kosm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3.</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Hermetycznych kombinezonów</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Rakiety kosmicznej</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Wykwalifikowanych ludzi</a:t>
            </a:r>
            <a:endParaRPr b="0" lang="en-US" sz="3200" spc="-1" strike="noStrike">
              <a:solidFill>
                <a:srgbClr val="000000"/>
              </a:solidFill>
              <a:latin typeface="Times New Roman"/>
            </a:endParaRPr>
          </a:p>
        </p:txBody>
      </p:sp>
      <p:sp>
        <p:nvSpPr>
          <p:cNvPr id="60"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zego zabrakło Rosjanom do lotu w kosm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4.</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Orzeł</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Komet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Sputnik</a:t>
            </a:r>
            <a:endParaRPr b="0" lang="en-US" sz="3200" spc="-1" strike="noStrike">
              <a:solidFill>
                <a:srgbClr val="000000"/>
              </a:solidFill>
              <a:latin typeface="Times New Roman"/>
            </a:endParaRPr>
          </a:p>
        </p:txBody>
      </p:sp>
      <p:sp>
        <p:nvSpPr>
          <p:cNvPr id="63"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Jak nazywał się lądownik, w którym Nil Armstrong doleciał na księży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5.</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Gagari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Titow</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Armstrong</a:t>
            </a:r>
            <a:endParaRPr b="0" lang="en-US" sz="3200" spc="-1" strike="noStrike">
              <a:solidFill>
                <a:srgbClr val="000000"/>
              </a:solidFill>
              <a:latin typeface="Times New Roman"/>
            </a:endParaRPr>
          </a:p>
        </p:txBody>
      </p:sp>
      <p:sp>
        <p:nvSpPr>
          <p:cNvPr id="66"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tóra z niżej wymienionych osób nie okrążyła Ziem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6.</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Gemin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Challeng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Mir</a:t>
            </a:r>
            <a:endParaRPr b="0" lang="en-US" sz="3200" spc="-1" strike="noStrike">
              <a:solidFill>
                <a:srgbClr val="000000"/>
              </a:solidFill>
              <a:latin typeface="Times New Roman"/>
            </a:endParaRPr>
          </a:p>
        </p:txBody>
      </p:sp>
      <p:sp>
        <p:nvSpPr>
          <p:cNvPr id="69"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 jakim statku kosmicznym odbył się pierwszy amerykański lot załogow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7.</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Sylab</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Mi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Mothership</a:t>
            </a:r>
            <a:endParaRPr b="0" lang="en-US" sz="3200" spc="-1" strike="noStrike">
              <a:solidFill>
                <a:srgbClr val="000000"/>
              </a:solidFill>
              <a:latin typeface="Times New Roman"/>
            </a:endParaRPr>
          </a:p>
        </p:txBody>
      </p:sp>
      <p:sp>
        <p:nvSpPr>
          <p:cNvPr id="72"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k się nazywała jedyna amerykańska stacja orbitalna w pierwszej połowie lat 70-ty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8.</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fontScale="83000"/>
          </a:bodyPr>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Inna nazwa rakiety kosmicznej</a:t>
            </a:r>
            <a:endParaRPr b="0" lang="en-US" sz="2800" spc="-1" strike="noStrike">
              <a:solidFill>
                <a:srgbClr val="000000"/>
              </a:solidFill>
              <a:latin typeface="Times New Roman"/>
            </a:endParaRPr>
          </a:p>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 Nazwa statków, który mogły wielokrotnie kursować na orbitę</a:t>
            </a:r>
            <a:endParaRPr b="0" lang="en-US" sz="2800" spc="-1" strike="noStrike">
              <a:solidFill>
                <a:srgbClr val="000000"/>
              </a:solidFill>
              <a:latin typeface="Times New Roman"/>
            </a:endParaRPr>
          </a:p>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 Statek kosmiczny, służący do przewozu niezbędnych rzeczy dla astronautów w kosmosie</a:t>
            </a:r>
            <a:endParaRPr b="0" lang="en-US" sz="2800" spc="-1" strike="noStrike">
              <a:solidFill>
                <a:srgbClr val="000000"/>
              </a:solidFill>
              <a:latin typeface="Times New Roman"/>
            </a:endParaRPr>
          </a:p>
        </p:txBody>
      </p:sp>
      <p:sp>
        <p:nvSpPr>
          <p:cNvPr id="75"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m kosmiczny 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9.</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Morze Spokoju</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Wielki Krat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Niebieskie Wydmy</a:t>
            </a:r>
            <a:endParaRPr b="0" lang="en-US" sz="3200" spc="-1" strike="noStrike">
              <a:solidFill>
                <a:srgbClr val="000000"/>
              </a:solidFill>
              <a:latin typeface="Times New Roman"/>
            </a:endParaRPr>
          </a:p>
        </p:txBody>
      </p:sp>
      <p:sp>
        <p:nvSpPr>
          <p:cNvPr id="78"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Obok jakiego obszaru na księżycu wylądował Armstro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10.</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7</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4</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Challenger nie był promem.</a:t>
            </a:r>
            <a:endParaRPr b="0" lang="en-US" sz="3200" spc="-1" strike="noStrike">
              <a:solidFill>
                <a:srgbClr val="000000"/>
              </a:solidFill>
              <a:latin typeface="Times New Roman"/>
            </a:endParaRPr>
          </a:p>
        </p:txBody>
      </p:sp>
      <p:sp>
        <p:nvSpPr>
          <p:cNvPr id="81"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Ilu członków załogi zginęło podczas eksplozji promu Challeng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Koniec.</a:t>
            </a:r>
            <a:br>
              <a:rPr sz="4400"/>
            </a:br>
            <a:r>
              <a:rPr b="0" lang="en-US" sz="4400" spc="-1" strike="noStrike">
                <a:solidFill>
                  <a:srgbClr val="ffffff"/>
                </a:solidFill>
                <a:latin typeface="Times New Roman"/>
              </a:rPr>
              <a:t>Porównaj swoje odpowiedzi z kluczem poniżej.</a:t>
            </a:r>
            <a:endParaRPr b="0" lang="en-US" sz="4400" spc="-1" strike="noStrike">
              <a:solidFill>
                <a:srgbClr val="000000"/>
              </a:solidFill>
              <a:latin typeface="Times New Roman"/>
            </a:endParaRPr>
          </a:p>
        </p:txBody>
      </p:sp>
      <p:sp>
        <p:nvSpPr>
          <p:cNvPr id="83" name=""/>
          <p:cNvSpPr/>
          <p:nvPr/>
        </p:nvSpPr>
        <p:spPr>
          <a:xfrm>
            <a:off x="380880" y="2590920"/>
            <a:ext cx="4191120" cy="26845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B</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C</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B</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A</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C</a:t>
            </a:r>
            <a:endParaRPr b="0" lang="en-US" sz="2400" spc="-1" strike="noStrike">
              <a:solidFill>
                <a:srgbClr val="000000"/>
              </a:solidFill>
              <a:latin typeface="Times New Roman"/>
            </a:endParaRPr>
          </a:p>
        </p:txBody>
      </p:sp>
      <p:sp>
        <p:nvSpPr>
          <p:cNvPr id="84" name=""/>
          <p:cNvSpPr/>
          <p:nvPr/>
        </p:nvSpPr>
        <p:spPr>
          <a:xfrm>
            <a:off x="4648320" y="2590920"/>
            <a:ext cx="419076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 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 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400" spc="-1" strike="noStrike">
                <a:solidFill>
                  <a:srgbClr val="ffffff"/>
                </a:solidFill>
                <a:latin typeface="Book Antiqua"/>
              </a:rPr>
              <a:t>Bez zapowiedzi, zaskakując świat, 12 kwietnia 1961 roku, ZSSR wystrzelił na orbitę wokółziemską pierwszego człowieka. Jurij Gagarin katapultował się i opadł na spadochronie. ZSSR długo to trzymał w tajemnicy z obawy, że lot nie będzie uznany za udany i pierwszeństwo wymknie się z rąk. Między ZSSR i USA, wrogimi światowymi mocarstwami, toczyła się zimna wojna i rywalizacja, także w dziedzinie kosmicznej. Udany lot Gagarina był ciosem dla prestiżu USA.</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45" name=""/>
          <p:cNvSpPr txBox="1"/>
          <p:nvPr/>
        </p:nvSpPr>
        <p:spPr>
          <a:xfrm>
            <a:off x="533520" y="380880"/>
            <a:ext cx="82296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38160">
                  <a:solidFill>
                    <a:srgbClr val="000000"/>
                  </a:solidFill>
                  <a:miter/>
                </a:ln>
                <a:blipFill rotWithShape="0">
                  <a:blip r:embed="rId2"/>
                  <a:srcRect/>
                  <a:stretch/>
                </a:blipFill>
                <a:effectLst>
                  <a:outerShdw dist="17819" dir="2700000" blurRad="0" rotWithShape="0">
                    <a:srgbClr val="808080"/>
                  </a:outerShdw>
                </a:effectLst>
                <a:latin typeface="Bookman Old Style"/>
              </a:rPr>
              <a:t>Tekst źródłowy</a:t>
            </a:r>
            <a:endParaRPr b="0" i="1" lang="en-US" sz="2800" spc="1" strike="noStrike">
              <a:ln w="38160">
                <a:solidFill>
                  <a:srgbClr val="000000"/>
                </a:solidFill>
                <a:miter/>
              </a:ln>
              <a:blipFill rotWithShape="0">
                <a:blip r:embed="rId3"/>
                <a:srcRect/>
                <a:stretch/>
              </a:blipFill>
              <a:effectLst>
                <a:outerShdw dist="17819" dir="2700000" blurRad="0" rotWithShape="0">
                  <a:srgbClr val="808080"/>
                </a:outerShdw>
              </a:effectLst>
              <a:latin typeface="Bookman Old Style"/>
              <a:ea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Book Antiqua"/>
              </a:rPr>
              <a:t>	</a:t>
            </a:r>
            <a:r>
              <a:rPr b="0" lang="pl-PL" sz="2400" spc="-1" strike="noStrike">
                <a:solidFill>
                  <a:srgbClr val="ffffff"/>
                </a:solidFill>
                <a:latin typeface="Times New Roman"/>
              </a:rPr>
              <a:t>Pierwszy Amerykanin, Alan Shepard odbył krótki lot w kapsule statku Merkury, dopiero 5 maja 1961 roku. Nie okrążył Ziemi jak Gagarin, tylko wzniósł się kilkadziesiąt kilometrów nad powierzchnię i 15 minut później wylądował. Drugim człowiekiem, który okrążył Ziemię, był znów Rosjanin, Herman Titow, który 6 sierpnia 1961 roku spędził na orbicie całą dobę. Dopiero w lutym 1962 roku pierwszy Amerykanin, Jon Lenn, odbył lot orbitalny wokół Ziemi, trwający ledwie pięć godzin. A tymczasem ZSRR bił kolejne rekordy: pierwsza kobieta w kosmosie, pierwsze wyjście w otwartą przestrzeń.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Wkrótce i Amerykanie mieli się czym pochwalić. 23 marca 1965 roku odbył się pierwszy amerykański lot załogowy na statku Gemini. Dwa miesiące później pierwszy raz amerykański astronauta, Edward White, wyszedł na otwartą przestrzeń. Pełną parą ruszały przygotowania do zadania nokautującego ciosu – lądowania na Księżycu.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ZSSR potajemnie też czynił przygotowania, już trenowali kosmonauci, przygotowano lądownik księżycowy i skafander do spacerów, ale nie powiodły się próby konstrukcji potężnej księżycowej rakiety. </a:t>
            </a:r>
            <a:br>
              <a:rPr sz="2400"/>
            </a:br>
            <a:r>
              <a:rPr b="0" lang="pl-PL" sz="2400" spc="-1" strike="noStrike">
                <a:solidFill>
                  <a:srgbClr val="ffffff"/>
                </a:solidFill>
                <a:latin typeface="Times New Roman"/>
              </a:rPr>
              <a:t>Innym niepowodzeniem Rosjan była pierwsza wielka tragedia kosmiczna. Podczas pierwszego lotu nowego statku typu Sojusz zginął kosmonauta Komarow. W czasie lądowania nie otworzył się spadochron i kapsuła z impetem wbiła się w ziemię niedaleko Orenburg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ZSSR potajemnie też czynił przygotowania, już trenowali kosmonauci, przygotowano lądownik księżycowy i skafander do spacerów, ale nie powiodły się próby konstrukcji potężnej księżycowej rakiety. </a:t>
            </a:r>
            <a:br>
              <a:rPr sz="2400"/>
            </a:br>
            <a:r>
              <a:rPr b="0" lang="pl-PL" sz="2400" spc="-1" strike="noStrike">
                <a:solidFill>
                  <a:srgbClr val="ffffff"/>
                </a:solidFill>
                <a:latin typeface="Times New Roman"/>
              </a:rPr>
              <a:t>Innym niepowodzeniem Rosjan była pierwsza wielka tragedia kosmiczna. Podczas pierwszego lotu nowego statku typu Sojusz zginął kosmonauta Komarow. W czasie lądowania nie otworzył się spadochron i kapsuła z impetem wbiła się w ziemię niedaleko Orenburg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21 lipca 1969 roku (naszego czasu, bo w USA trwał jeszcze 20 lipca) nastąpiła historyczna chwila – człowiek po raz pierwszy postawił nogę na innym ciele niebieskim. Lądownik Orzeł z Nilem Armstrongiem i Erwinem Aldrinem wylądował w pobliżu księżycowego równika na obszarze Morza Spokoju. Nie obyło się bez przykrych niespodzianek. Okazało się, że miejsce wybrane na lądowisko wcale nie jest równe i płaskie, lecz stanowi usiany głazami krater o wymiarach stadionu piłkarskiego. Pilotujący pojazd Armstrong w ostatniej chwili brawurowo wyprowadził maszynę nad równinę, kilka kilometrów dalej.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Amerykanie mieli tylko jedną stację orbitalną – Sylab – w pierwszej połowie lat 70. Potem zainwestowali w budowę promów kosmicznych, czyli statków, które mogły wielokrotnie kursować na orbitę. Ich era rozpoczęła się w 1981 roku od startu Columbii. Promy stały się kosmicznymi autobusami, które mogły wynieść na orbitę już nie tylko doświadczonych pilotów, obdarzonych końskim zdrowiem, lecz także zwykłych turystów. Nadal jednak loty w kosmos mają spory margines niebezpieczeństwa. W 1986 roku wybuch mieszanki wodoru i tlenu rozerwał prom Challenger. Była to największa kosmiczna katastrofa, w której zginęło siedmioro członków załogi.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1.</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1965</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1969</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1974</a:t>
            </a:r>
            <a:endParaRPr b="0" lang="en-US" sz="3200" spc="-1" strike="noStrike">
              <a:solidFill>
                <a:srgbClr val="000000"/>
              </a:solidFill>
              <a:latin typeface="Times New Roman"/>
            </a:endParaRPr>
          </a:p>
        </p:txBody>
      </p:sp>
      <p:sp>
        <p:nvSpPr>
          <p:cNvPr id="54"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którym roku człowiek po raz pierwszy postawił nogę na księżyc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3T20:42:26Z</dcterms:created>
  <dc:creator>Flont</dc:creator>
  <dc:description/>
  <dc:language>en-US</dc:language>
  <cp:lastModifiedBy>Flont</cp:lastModifiedBy>
  <dcterms:modified xsi:type="dcterms:W3CDTF">2009-05-13T21:19:58Z</dcterms:modified>
  <cp:revision>4</cp:revision>
  <dc:subject/>
  <dc:title>Prezentacja programu PowerPoint</dc:title>
</cp:coreProperties>
</file>